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C99-EA9E-4696-94AC-82A86D54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8CB-EB38-479F-ACFB-F02B9FA0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7E8-28AD-4335-9A3C-73882638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2C5-6F8C-463B-AFC4-5F1FA45D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AE1-B0D2-4C31-B467-8C797B1D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29A0-268F-4CE4-8263-F37F8F5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F61F-E01D-4FD5-B3B9-1AFA427D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5754-50C3-4910-AA30-BF0A1BD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6D61-6EB5-41EE-8571-973D9E5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BB75-AE22-4205-9735-CD4036F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9408-E8CA-497A-8F8E-DC87E3BF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AD6-742D-4D74-88BB-F23C63A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16C3-AB33-408C-A77F-CFDC4DE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D93C-5AAB-41CD-9654-17029BC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B11E-7343-4559-BD18-0C5A0179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8B17-1DEF-4B7C-85FE-2CB0DADE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9A69-25BF-4557-AF7B-CB3B28F1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E3E-929A-4FF7-A9EE-62B55CD5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B8D-C3C9-416D-92EA-8A26F741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039-CCEC-4DF6-95F5-6C09CBCB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8CA-9F93-4CA3-9DD6-3320D44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0E3-7447-4DEE-A0AA-D84659C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213-1460-4C22-99AA-5BBE718D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2EF-C55C-43EA-B398-9347780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8C9-2FC6-49E0-AFCE-4103891A295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5093-97B6-4213-B48A-33E5C266D85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95B5-39D4-4071-8032-E42029F8BDB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EL TRABAJO</a:t>
            </a:r>
            <a:br>
              <a:rPr sz="5400"/>
            </a:br>
            <a:br>
              <a:rPr sz="5400"/>
            </a:br>
            <a:r>
              <a:rPr b="0" lang="es-ES" sz="5400" spc="-1" strike="noStrike">
                <a:solidFill>
                  <a:srgbClr val="ffffcc"/>
                </a:solidFill>
                <a:latin typeface="Comic Sans MS"/>
              </a:rPr>
              <a:t> EN GRUPO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D82-641D-4CEC-A839-5A08B01636AA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Roles de los participa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LIDE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Fuerte personalidad, buena capacidad de expresión, convicción. Influye sobre el grupo y se implica en los conflictos que surge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COORDIN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rienta y guía al equipo, lo reconduce a los objetivos, a las normas. Facilita las relaciones interpersonales y afectiv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PORTAVOZ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Recoge y expone con fidelidad los puntos de vista y las opiniones que se expresan. Registra el progreso del trabajo del grupo. Es la memoria grup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OBSERVAD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bserva con objetividad los aspectos de la reunión. Supervisa la evolución del ambiente y el clima dentro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JEFE FORMAL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Tiene el poder oficial en el grupo. Influye sobre los demás por su “status” de poder forma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ANIM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mistoso, comprende y estimula a los miembros del grupo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11B-1433-4E06-AC71-7315A41E353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Roles de los participa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DOMIN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taca al equipo, influye a través del miedo, la manipulación, el chantaj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MANIPULADOR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rienta al equipo hacia sus propios objetivos personales, enmascarándolos en las tareas que desarrolla 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GRACIOS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Interrumpe continuamente el trabajo del grupo con bromas o imitaciones, desviándolo de sus objetivo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UMIS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somete al grupo por temor o vergüenza. Todos los miembros lo atacan sistemáticamente. Busca la simpatía para esconder su debilidad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SISTENTE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opone de forma sistemática por temor a perder su “status”. Desanima o bloquea cualquier iniciativa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TRAIDO: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comporta de forma indiferente y pasiva. Cuando participa se desvía del tem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</a:rPr>
              <a:t>PLANIFICACIÓN DE ACTIVIDADES EN GRUPO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28800"/>
            <a:ext cx="82296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0.- DESCRIPCION DE LA ACTIVIDAD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.- JUSTIFICACIÓN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OR 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I.- OBJETIVO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ARA QUÉ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II.- DESTINATARIOS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PARA QUIÉN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IV.- ACTIVIDADES 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ÓM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.- TEMPORALIZACIÓN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UÁNDO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.- RECURSOS HUMANO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IÉN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I.- RECURSOS MATERIALES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ON QUE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VIII.- EVALUACIÓN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QUÉ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ÓMO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Verdana"/>
              </a:rPr>
              <a:t>CUÁNDO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020-52BF-4B8A-96B6-B5042AE09D2A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13F1-CF05-40EF-869A-261A69F66F6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ÍND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Conceptos: Grupo y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Ventajas e Inconvenientes del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Funciones del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Fases de constitución de u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Pautas para trabajar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Roles de los participan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Comic Sans MS"/>
              </a:rPr>
              <a:t>Técnicas de Trabajo en Grup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85A8-8D5B-4310-9511-6D3F8D6604B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El grupo: Concepto y Característ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omic Sans MS"/>
              </a:rPr>
              <a:t>Concep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entiende por grupo a un número intermedio de personas (dos o más), que se reúnen con una finalidad común y que se regulan mediante una serie de negociaciones, implícitas o explicitas, donde el conflicto es algo normal y natural .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Número limitado de person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Finalidad común (objetivo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Regulación por Negociación (norma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Conflictos / Resolució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4B60-3C75-4AF8-9BB5-0B2E857C0B3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Comic Sans MS"/>
              </a:rPr>
              <a:t>Concepto de trabajo en grup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Comic Sans MS"/>
              </a:rPr>
              <a:t>Participar como miembro de un equipo: Aportar ideas, sugerencias y esfuerzos al proyecto del grupo. Hacer propios los objetivos del grupo y compartir las tareas necesarias para alcanzarl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AAFF-2541-4899-9A3A-2C70B58BC9D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Comic Sans MS"/>
              </a:rPr>
              <a:t>VENTAJAS E INCONVEN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39560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VENTAJ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El grupo actúa como fuente de motiva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Ofrece una visión más heterogénea y amplia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consiguen nuevas soluciones e ideas creativ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Los miembros como han participado en el proceso de creación y/o resolución, aceptan y apoyan las solu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Los individuos se sienten más implicados en los objetivos cuando han participado en su establecimien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4043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INCONVENIEN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El trabajo en grupo requiere más tiem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Fuerte tendencia a la conformidad por el temor a ser marginados en el grupo por expresar ideas opuest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ueden desarrollarse normas contrarias a los objetivos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uede reducir el esfuerzo individual “Holgazanería Social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6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910-2ACD-4EDB-8A4C-A5DF701DFE8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FUNCIONES DEL GRUP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PROFESIONA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Dirigir, organizar, controlar y distribuir mejor el trabaj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olucionar problemas y tomar decision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Recoger información, ideas y sugerenci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Participación y compromiso de los sujetos con las objetivos, actividades, planes y decisiones tomada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Negociar y resolver conflictos que surgen en la Organ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Promover el cambio y el desarrollo de la Organ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Comic Sans MS"/>
              </a:rPr>
              <a:t>PERSONALE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atisfacen necesidades de afili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Contribuyen a establecer el autoconcepto y a mantener la autoestima de la propia perso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Ayudan a conseguir los objetivos personal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Reducen el sentimiento de inseguridad y proporcionan apoyo socia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Facilitan el entrenamiento, reduciendo el aburrimiento y la fatiga, y aumentando la satisfacción persona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454-C946-4C72-A391-6A05C56CD45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omic Sans MS"/>
              </a:rPr>
              <a:t>FASES DE CONSTITUCIÓN DE UN GRUP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INICI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La incertidumbre y la ansiedad se apoderan de los miembros del grupo, que aún no han establecido ni unos parámetros de relación, ni una especificación de tareas y funcione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CLARIFIC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e buscan procedimientos para adquirir seguridad, se establecen los primeros roles y normas; y generalmente existe un clima de dependenci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CONTRADEPENCIA Y/O LUCHA ENTRE HEMANOS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Surgen subgrupos y los primeros conflictos que tiene que superar el grupo; supone el enfrentamiento entre los subgrupos, desarrollándose un sentimiento de pertenencia por oposi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ENCANTAMIENTO / INTEGR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En ésta fase la nota predominante es el buen clima, expresión de madurez del grupo. Empiezan a aparecer resultados satisfactorios, se incrementan los sentimientos de cohesión que permiten aumentar la productividad del grup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Comic Sans MS"/>
              </a:rPr>
              <a:t>TERMINACIÓN / FINALIZACIÓN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eaeaea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Comic Sans MS"/>
              </a:rPr>
              <a:t>Cuando se consiguen los objetivos propuestos el grupo de diluy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BF7-914B-4480-98AC-658F4EAD898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ALGUNAS PAUTAS PARA TRABAJAR EN GRUPO (I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Todo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los participantes han de conocer con claridad el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Objetivo</a:t>
            </a:r>
            <a:r>
              <a:rPr b="0" lang="es-ES" sz="2000" spc="-1" strike="noStrike" u="sng">
                <a:solidFill>
                  <a:srgbClr val="eec85e"/>
                </a:solidFill>
                <a:uFillTx/>
                <a:latin typeface="Comic Sans MS"/>
                <a:hlinkClick r:id="rId1" action="ppaction://hlinksldjump"/>
              </a:rPr>
              <a:t>[1]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 final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del grupo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han de establecer unas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norma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de funcionamiento, que todos los miembros del grupo deben conocer , aceptar y respet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deben establecer un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método de trabajo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que permita alcanzar los objetiv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Se deben conocer todas las </a:t>
            </a:r>
            <a:r>
              <a:rPr b="1" lang="es-ES" sz="2000" spc="-1" strike="noStrike">
                <a:solidFill>
                  <a:srgbClr val="eaeaea"/>
                </a:solidFill>
                <a:latin typeface="Comic Sans MS"/>
              </a:rPr>
              <a:t>tareas o pasos</a:t>
            </a:r>
            <a:r>
              <a:rPr b="0" lang="es-ES" sz="2000" spc="-1" strike="noStrike">
                <a:solidFill>
                  <a:srgbClr val="eaeaea"/>
                </a:solidFill>
                <a:latin typeface="Comic Sans MS"/>
              </a:rPr>
              <a:t> a seguir para conseguir los Objetivos propuest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[1]</a:t>
            </a: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 Los objetivos planteados en un grupo deben ser realistas, alcanzables y medib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Trabajo en grup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440-9D12-44B2-A308-81231AA6C62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Comic Sans MS"/>
              </a:rPr>
              <a:t>ALGUNAS PAUTAS PARA TRABAJAR EN GRUPO (II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hace el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parto de tareas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(delegación)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entre los componentes del grupo, de forma que la ejecución de todas las tareas lleven a conseguir el objetivo final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Se elegirá u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ecretario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(encargado de anotar todas las ideas propuestas por los miembros del grupo) 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un portavoz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(encargado de exponer el trabajo del grupo). y u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Coordinador o Moderador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que cumpla y haga cumplir las normas, que mediará e intentará resolver los conflictos  y que guiará  y motivará al grupo para conseguir los el objetivo final del grup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Todos los miembros del grupo de deben apartar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ideas y todos deben trabajar por igual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para alcanzar los objetivo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Debe existir un bue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sistema de comunicación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, que permita conocer en todo momento las opiniones de los participantes.Los miembros del grupo deben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escuchar con atención 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a todos los participantes cuando intervienen.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Respetando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en todo momento los </a:t>
            </a:r>
            <a:r>
              <a:rPr b="1" lang="es-ES" sz="1800" spc="-1" strike="noStrike">
                <a:solidFill>
                  <a:srgbClr val="eaeaea"/>
                </a:solidFill>
                <a:latin typeface="Comic Sans MS"/>
              </a:rPr>
              <a:t>turnos</a:t>
            </a:r>
            <a:r>
              <a:rPr b="0" lang="es-ES" sz="1800" spc="-1" strike="noStrike">
                <a:solidFill>
                  <a:srgbClr val="eaeaea"/>
                </a:solidFill>
                <a:latin typeface="Comic Sans MS"/>
              </a:rPr>
              <a:t> de palabr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7:45:25Z</dcterms:created>
  <dc:creator>Biblioteca</dc:creator>
  <dc:description/>
  <dc:language>en-US</dc:language>
  <cp:lastModifiedBy>IES PARQUE ALUCHE</cp:lastModifiedBy>
  <dcterms:modified xsi:type="dcterms:W3CDTF">2011-04-28T15:34:35Z</dcterms:modified>
  <cp:revision>11</cp:revision>
  <dc:subject/>
  <dc:title>EL TRABAJO EN GRUPO</dc:title>
</cp:coreProperties>
</file>